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A5C-0CC9-4E5A-99E2-F595F517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CDD-7275-4513-9F5F-0A028EE5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6B2-2F77-4DDF-AEAB-F9268BFC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763-667A-4F9F-AC6F-3252EAE3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49B-2E51-4B83-BAD8-570C0ACD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B29-2A21-4439-B2AC-9BAABF95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FD0-C015-477A-8C77-E3B5DAC2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9E2-E880-4F02-BFE2-79790929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1DD-3821-4772-9AF3-A9FCC786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805-3054-4142-8A40-26DEA96D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0E3-77B2-48D4-BDB9-DD76D871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71C-0D69-4E1E-9C82-398570B0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C025-D435-4A4B-A3FB-9C2FCFA79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заснована на доказима је “пажљива, промишљена употреба најбољих доказа из медицинске литературе у доношењу одлуке о лечењу конкретног болесника. То значи да се индивидуално клиничко искуство интегрише са најбољим клиничким доказима из систематског истраживањ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Шта то практично знач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Код нашег пацијента постоји одређени здравствени пробле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Прво треба да проблем прецизно дефинишемо. На пример: “Да ли постоји дијетални суплемент који може да снизи повишени артеријски притисак код одраслих пацијената са есенцијалном хипертензијом у фази 1.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Затим налазимо све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клиничке студије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које су публиковане на ту тем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Шта то практично значи? - настава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 пронађених публикованих студија издвајамо само оне које су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тодолошки исправно урађе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(дакле валидне) и чији резултат је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линичк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начај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 основу издојених студија формулишемо решење проблема пације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ењујемо решење на пацијен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Суштина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Медицине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засноване на доказим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З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заснована на доказима је интеграција клиничког иску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система вредности пацијента и најбољих доказа из литератур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окази сами по себи не доводе до закључ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већ само помажу у одређивању најбољег третмана пациј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Примен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ЗД обично се започиње приликом прегледа пациј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када се генеришу питања о ефектима лече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корисности дијагностичког теста или прогнози 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 захтева нове вештине од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лека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претраживање литературе и примену формалних правила за евалуацију доказа из литературе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што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заснована на доказим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свака 3 пацијент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у просеку генерише 2 питања на која не може да пружи одгово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 1900. години било је око 10,000 научних часописа; у 1990 било је више од 100,000 научних часописа; 90% свих најкрупнијих открића у науци је објављено у 150 од ових 100,000 публикација; 80% цитата које нотира С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јен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јш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нд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е налазе у мање од 1,000 часопис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Алтернатива Медицини заснованој на докази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968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А ЗА КЛИ-НИЧКЕ ОДЛУ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А ЗА МЕР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ЈЕДИНИЦА МЕ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миненциј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сјај седе кос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миноме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ичка густи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с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бина глас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оме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цибе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оквенциј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штина гово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зоме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 лепљив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ганциј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ста одећ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ни ви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мани -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иђењ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 видљиве религиоз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кстант за мерење угла коле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ђународне јединице пијете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учешћ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 жал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хиломе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д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рвоз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 фобије од тужбе за несавесно лечењ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аки могући дијагностички тес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ње на рачуну у банц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поуздању</a:t>
                      </a: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зичне интервенциј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ст знојењ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ма знојењ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74"/>
          <p:cNvSpPr/>
          <p:nvPr/>
        </p:nvSpPr>
        <p:spPr>
          <a:xfrm>
            <a:off x="1467720" y="6597720"/>
            <a:ext cx="59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zgerald D, Isaaks D. Seven alternatives to evidence based medicine. BMJ 1999; 319: 16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1:36Z</dcterms:modified>
  <cp:revision>57</cp:revision>
  <dc:subject/>
  <dc:title>Slide 1</dc:title>
</cp:coreProperties>
</file>